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space3.wav" ContentType="audio/x-wav"/>
  <Override PartName="/ppt/media/image1.png" ContentType="image/png"/>
  <Override PartName="/ppt/media/image7.jpeg" ContentType="image/jpeg"/>
  <Override PartName="/ppt/media/image13.png" ContentType="image/png"/>
  <Override PartName="/ppt/media/space2.wav" ContentType="audio/x-wav"/>
  <Override PartName="/ppt/media/image8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.png" ContentType="image/png"/>
  <Override PartName="/ppt/media/romans.wav" ContentType="audio/x-wav"/>
  <Override PartName="/ppt/media/roll.wav" ContentType="audio/x-wav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roman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slide" Target="slide2.xml"/><Relationship Id="rId9" Type="http://schemas.openxmlformats.org/officeDocument/2006/relationships/image" Target="../media/image6.png"/><Relationship Id="rId10" Type="http://schemas.openxmlformats.org/officeDocument/2006/relationships/audio" Target="../media/roll.wav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audio" Target="../media/roll.wav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audio" Target="../media/roll.wav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audio" Target="../media/roll.wav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audio" Target="../media/roll.wav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audio" Target="../media/roll.wav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audio" Target="../media/roll.wav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audio" Target="../media/roll.wav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audio" Target="../media/roll.wav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image" Target="../media/image3.png"/><Relationship Id="rId8" Type="http://schemas.openxmlformats.org/officeDocument/2006/relationships/slide" Target="slide8.xml"/><Relationship Id="rId9" Type="http://schemas.openxmlformats.org/officeDocument/2006/relationships/image" Target="../media/image3.png"/><Relationship Id="rId10" Type="http://schemas.openxmlformats.org/officeDocument/2006/relationships/slide" Target="slide13.xml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4.png"/><Relationship Id="rId15" Type="http://schemas.openxmlformats.org/officeDocument/2006/relationships/audio" Target="../media/space2.wav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audio" Target="../media/roll.wav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audio" Target="../media/roll.wav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audio" Target="../media/roll.wav"/><Relationship Id="rId1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6.png"/><Relationship Id="rId6" Type="http://schemas.openxmlformats.org/officeDocument/2006/relationships/audio" Target="../media/space2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audio" Target="../media/space3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6.png"/><Relationship Id="rId6" Type="http://schemas.openxmlformats.org/officeDocument/2006/relationships/audio" Target="../media/space2.wav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6.png"/><Relationship Id="rId12" Type="http://schemas.openxmlformats.org/officeDocument/2006/relationships/audio" Target="../media/roll.wav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6.png"/><Relationship Id="rId12" Type="http://schemas.openxmlformats.org/officeDocument/2006/relationships/audio" Target="../media/roll.wav"/><Relationship Id="rId1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2.png"/><Relationship Id="rId12" Type="http://schemas.openxmlformats.org/officeDocument/2006/relationships/slide" Target="slide2.xml"/><Relationship Id="rId13" Type="http://schemas.openxmlformats.org/officeDocument/2006/relationships/image" Target="../media/image6.png"/><Relationship Id="rId14" Type="http://schemas.openxmlformats.org/officeDocument/2006/relationships/audio" Target="../media/roll.wav"/><Relationship Id="rId1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slide" Target="slide2.xml"/><Relationship Id="rId9" Type="http://schemas.openxmlformats.org/officeDocument/2006/relationships/image" Target="../media/image6.png"/><Relationship Id="rId10" Type="http://schemas.openxmlformats.org/officeDocument/2006/relationships/audio" Target="../media/roll.wav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2388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Prostokątny układ współrzędnych na płaszczyź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5110200"/>
            <a:ext cx="461016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HG Mincho Light J"/>
              </a:rPr>
              <a:t>Alina Blichar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HG Mincho Light J"/>
              </a:rPr>
              <a:t>Publiczne Gimnazjum n</a:t>
            </a: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r 1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HG Mincho Light J"/>
              </a:rPr>
              <a:t> </a:t>
            </a: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w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HG Mincho Light J"/>
              </a:rPr>
              <a:t>Kędzierzyn</a:t>
            </a: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ie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HG Mincho Light J"/>
              </a:rPr>
              <a:t> – Koźl</a:t>
            </a: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4680" y="4618080"/>
            <a:ext cx="4937040" cy="144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022560" y="2085480"/>
            <a:ext cx="7920" cy="478980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71920" y="4486320"/>
            <a:ext cx="1440" cy="2887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01840" y="4486320"/>
            <a:ext cx="1800" cy="2966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4486320"/>
            <a:ext cx="1800" cy="280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9040" y="4486320"/>
            <a:ext cx="1800" cy="2887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7240" y="4486320"/>
            <a:ext cx="1440" cy="280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6880" y="4486320"/>
            <a:ext cx="1440" cy="2887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92640" y="4494240"/>
            <a:ext cx="1440" cy="2649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736440" y="4486320"/>
            <a:ext cx="11160" cy="280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06880" y="4486320"/>
            <a:ext cx="1440" cy="280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7240" y="4486320"/>
            <a:ext cx="1440" cy="2728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29040" y="4486320"/>
            <a:ext cx="1800" cy="280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9400" y="4478400"/>
            <a:ext cx="1800" cy="2887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63800" y="4270320"/>
            <a:ext cx="32868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3800" y="3902040"/>
            <a:ext cx="32868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63800" y="3540240"/>
            <a:ext cx="32868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3800" y="3179880"/>
            <a:ext cx="32076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819520"/>
            <a:ext cx="32868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63800" y="2473200"/>
            <a:ext cx="32868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63800" y="4992840"/>
            <a:ext cx="32868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63800" y="5353200"/>
            <a:ext cx="32868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63800" y="5715000"/>
            <a:ext cx="32868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863800" y="6066000"/>
            <a:ext cx="328680" cy="10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63800" y="6427800"/>
            <a:ext cx="32868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71720" y="6780240"/>
            <a:ext cx="32076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>
            <a:hlinkClick r:id="" action="ppaction://hlinkshowjump?jump=nextslide"/>
          </p:cNvPr>
          <p:cNvPicPr/>
          <p:nvPr/>
        </p:nvPicPr>
        <p:blipFill>
          <a:blip r:embed="rId2">
            <a:lum contrast="68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roman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04640" y="1539720"/>
            <a:ext cx="5026320" cy="49863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układzie współrzędnych dane są trzy punkt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(-3,-3), B(2,2)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-5,-1). Znajdź czwarty punk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aki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by figura ABCD była prostokątem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622520" y="488952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330560" y="4911840"/>
            <a:ext cx="22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40120" y="2711520"/>
            <a:ext cx="133560" cy="133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971160" y="2435400"/>
            <a:ext cx="2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723960" y="400536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76280" y="4054320"/>
            <a:ext cx="22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700280" y="2760840"/>
            <a:ext cx="2176560" cy="218088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01720" y="4067280"/>
            <a:ext cx="860400" cy="84600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49400" y="1442880"/>
            <a:ext cx="3295440" cy="321156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652480" y="1522440"/>
            <a:ext cx="1866600" cy="185400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2941560" y="1814400"/>
            <a:ext cx="133560" cy="133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585880" y="1619280"/>
            <a:ext cx="2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33080" y="3698640"/>
            <a:ext cx="1935000" cy="194940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57400" y="2147760"/>
            <a:ext cx="3360600" cy="333720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01720" y="1851120"/>
            <a:ext cx="2193840" cy="216360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1120" y="1878120"/>
            <a:ext cx="871560" cy="8715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62240" y="4095720"/>
            <a:ext cx="788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0,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1760" y="2749680"/>
            <a:ext cx="34196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Podaj współrzędne punkt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9120" y="1878120"/>
            <a:ext cx="3103560" cy="3062160"/>
          </a:xfrm>
          <a:custGeom>
            <a:avLst/>
            <a:gdLst/>
            <a:ahLst/>
            <a:rect l="l" t="t" r="r" b="b"/>
            <a:pathLst>
              <a:path w="8619" h="8506">
                <a:moveTo>
                  <a:pt x="6123" y="38"/>
                </a:moveTo>
                <a:lnTo>
                  <a:pt x="8618" y="2495"/>
                </a:lnTo>
                <a:lnTo>
                  <a:pt x="2457" y="8505"/>
                </a:lnTo>
                <a:lnTo>
                  <a:pt x="0" y="6010"/>
                </a:lnTo>
                <a:lnTo>
                  <a:pt x="6123" y="0"/>
                </a:lnTo>
                <a:lnTo>
                  <a:pt x="6123" y="38"/>
                </a:lnTo>
              </a:path>
            </a:pathLst>
          </a:custGeom>
          <a:solidFill>
            <a:srgbClr val="ff0000">
              <a:alpha val="50000"/>
            </a:srgbClr>
          </a:soli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" action="ppaction://hlinkshowjump?jump=nextslide"/>
          </p:cNvPr>
          <p:cNvPicPr/>
          <p:nvPr/>
        </p:nvPicPr>
        <p:blipFill>
          <a:blip r:embed="rId7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>
            <a:hlinkClick r:id="rId8" action="ppaction://hlinksldjump"/>
          </p:cNvPr>
          <p:cNvPicPr/>
          <p:nvPr/>
        </p:nvPicPr>
        <p:blipFill>
          <a:blip r:embed="rId9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0" name="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334120" y="1143000"/>
            <a:ext cx="4443120" cy="4183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457200" y="1143000"/>
            <a:ext cx="4448160" cy="41972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860904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cz pola narysowanych fig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040" y="720720"/>
            <a:ext cx="238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37120" y="735120"/>
            <a:ext cx="255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1790640"/>
            <a:ext cx="1565280" cy="1889280"/>
          </a:xfrm>
          <a:custGeom>
            <a:avLst/>
            <a:gdLst/>
            <a:ahLst/>
            <a:rect l="l" t="t" r="r" b="b"/>
            <a:pathLst>
              <a:path w="4346" h="5149">
                <a:moveTo>
                  <a:pt x="0" y="5148"/>
                </a:moveTo>
                <a:lnTo>
                  <a:pt x="0" y="0"/>
                </a:lnTo>
                <a:lnTo>
                  <a:pt x="4345" y="0"/>
                </a:lnTo>
                <a:lnTo>
                  <a:pt x="4345" y="5148"/>
                </a:lnTo>
                <a:lnTo>
                  <a:pt x="0" y="5148"/>
                </a:lnTo>
                <a:lnTo>
                  <a:pt x="109" y="5148"/>
                </a:lnTo>
                <a:lnTo>
                  <a:pt x="0" y="5148"/>
                </a:lnTo>
              </a:path>
            </a:pathLst>
          </a:custGeom>
          <a:noFill/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1752480"/>
            <a:ext cx="2759040" cy="1898640"/>
          </a:xfrm>
          <a:custGeom>
            <a:avLst/>
            <a:gdLst/>
            <a:ahLst/>
            <a:rect l="l" t="t" r="r" b="b"/>
            <a:pathLst>
              <a:path w="7665" h="5273">
                <a:moveTo>
                  <a:pt x="0" y="5272"/>
                </a:moveTo>
                <a:lnTo>
                  <a:pt x="5459" y="0"/>
                </a:lnTo>
                <a:lnTo>
                  <a:pt x="7664" y="5272"/>
                </a:lnTo>
                <a:lnTo>
                  <a:pt x="0" y="5272"/>
                </a:lnTo>
              </a:path>
            </a:pathLst>
          </a:custGeom>
          <a:noFill/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11680" y="6330960"/>
            <a:ext cx="6122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ysunek a) P = a*b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P = 4*5               P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12040" y="6958080"/>
            <a:ext cx="6444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ysunek b) P = 0,5a*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P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0,5*7*5        P = 17,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4760" y="3581280"/>
            <a:ext cx="212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040" y="2438280"/>
            <a:ext cx="229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160" y="3657600"/>
            <a:ext cx="212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8000640" y="1828800"/>
            <a:ext cx="19080" cy="186228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00640" y="2514600"/>
            <a:ext cx="229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>
            <a:hlinkClick r:id="" action="ppaction://hlinkshowjump?jump=nextslide"/>
          </p:cNvPr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5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6" name="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334120" y="941400"/>
            <a:ext cx="4584600" cy="4267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4448160" cy="4197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2800" y="114480"/>
            <a:ext cx="8609040" cy="59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cz pola narysowanych fig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3280" y="6095880"/>
            <a:ext cx="7256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ysunek c) P = 0,5(a+b)*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P = 0,5*(7+4)*4        P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1760" y="6934320"/>
            <a:ext cx="7206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ysunek d) P = a*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    P = 6*4                       P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77520" y="817560"/>
            <a:ext cx="255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40440" y="1981080"/>
            <a:ext cx="3311640" cy="1511280"/>
          </a:xfrm>
          <a:custGeom>
            <a:avLst/>
            <a:gdLst/>
            <a:ahLst/>
            <a:rect l="l" t="t" r="r" b="b"/>
            <a:pathLst>
              <a:path w="9200" h="4196">
                <a:moveTo>
                  <a:pt x="2314" y="0"/>
                </a:moveTo>
                <a:lnTo>
                  <a:pt x="9199" y="0"/>
                </a:lnTo>
                <a:lnTo>
                  <a:pt x="6885" y="4195"/>
                </a:lnTo>
                <a:lnTo>
                  <a:pt x="0" y="4195"/>
                </a:lnTo>
                <a:lnTo>
                  <a:pt x="2314" y="0"/>
                </a:lnTo>
              </a:path>
            </a:pathLst>
          </a:custGeom>
          <a:noFill/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160" y="3429000"/>
            <a:ext cx="136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532720" y="1981080"/>
            <a:ext cx="12960" cy="148284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34160" y="2286000"/>
            <a:ext cx="229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0800" y="1066680"/>
            <a:ext cx="238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95440" y="2465280"/>
            <a:ext cx="2781360" cy="1497240"/>
          </a:xfrm>
          <a:custGeom>
            <a:avLst/>
            <a:gdLst/>
            <a:ahLst/>
            <a:rect l="l" t="t" r="r" b="b"/>
            <a:pathLst>
              <a:path w="7728" h="4158">
                <a:moveTo>
                  <a:pt x="0" y="4157"/>
                </a:moveTo>
                <a:lnTo>
                  <a:pt x="2224" y="0"/>
                </a:lnTo>
                <a:lnTo>
                  <a:pt x="6615" y="0"/>
                </a:lnTo>
                <a:lnTo>
                  <a:pt x="7727" y="4157"/>
                </a:lnTo>
                <a:lnTo>
                  <a:pt x="0" y="4157"/>
                </a:lnTo>
              </a:path>
            </a:pathLst>
          </a:custGeom>
          <a:noFill/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160" y="3886200"/>
            <a:ext cx="212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62000" y="2068560"/>
            <a:ext cx="229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2438280"/>
            <a:ext cx="15840" cy="153360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1480" y="3203640"/>
            <a:ext cx="229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" action="ppaction://hlinkshowjump?jump=nextslide"/>
          </p:cNvPr>
          <p:cNvPicPr/>
          <p:nvPr/>
        </p:nvPicPr>
        <p:blipFill>
          <a:blip r:embed="rId5">
            <a:lum contrast="62000"/>
          </a:blip>
          <a:stretch/>
        </p:blipFill>
        <p:spPr>
          <a:xfrm>
            <a:off x="9347040" y="6840360"/>
            <a:ext cx="735120" cy="7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236520" y="1219320"/>
            <a:ext cx="4849920" cy="47527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4200" y="131760"/>
            <a:ext cx="860904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dzie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w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kładzie współrzędnych znajdują się punkty, który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88720" y="2286000"/>
            <a:ext cx="3066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a) odcięta jest 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wna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62280" y="1347840"/>
            <a:ext cx="1440" cy="476244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00960" y="2816280"/>
            <a:ext cx="3016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b) rzędna jest 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wna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3440" y="3238560"/>
            <a:ext cx="4830840" cy="144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91600" y="3279600"/>
            <a:ext cx="4199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c) obie współr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dne są ujem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000" y="4561560"/>
            <a:ext cx="2612880" cy="347760"/>
          </a:xfrm>
          <a:prstGeom prst="roundRect">
            <a:avLst>
              <a:gd name="adj" fmla="val 6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16080" y="3782880"/>
            <a:ext cx="3236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d) odcięta jest dodat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a rzędna ujem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62280" y="4541760"/>
            <a:ext cx="2544840" cy="347760"/>
          </a:xfrm>
          <a:prstGeom prst="roundRect">
            <a:avLst>
              <a:gd name="adj" fmla="val 6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360" y="4586400"/>
            <a:ext cx="3016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e) rzędna jest rów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000" y="2381400"/>
            <a:ext cx="5265720" cy="144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30120" y="5102280"/>
            <a:ext cx="3745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f) odcięta i rzędna są rów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9840" y="1020600"/>
            <a:ext cx="4857840" cy="485784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>
            <a:hlinkClick r:id="" action="ppaction://hlinkshowjump?jump=nextslide"/>
          </p:cNvPr>
          <p:cNvPicPr/>
          <p:nvPr/>
        </p:nvPicPr>
        <p:blipFill>
          <a:blip r:embed="rId5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6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29480" y="289548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0320" y="196704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39320" y="155088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8900000">
            <a:off x="3885480" y="129492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69520" y="5029200"/>
            <a:ext cx="630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64560" y="5043600"/>
            <a:ext cx="630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7" name="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66680" y="1301760"/>
            <a:ext cx="5583240" cy="51688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2640" y="200160"/>
            <a:ext cx="860904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układzie współrzędnych wyznacz punkty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tórych pierwsza współrzędna x jest 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36440" y="1320840"/>
            <a:ext cx="466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)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60200" y="1782720"/>
            <a:ext cx="586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)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63440" y="2259000"/>
            <a:ext cx="466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)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2720" y="2749680"/>
            <a:ext cx="712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) 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4600" y="3352680"/>
            <a:ext cx="302904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Co można powiedzie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rugie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współrzędn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tych punktów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78400" y="4599000"/>
            <a:ext cx="57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ymbo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1447920"/>
            <a:ext cx="1800" cy="48765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60600" y="1415880"/>
            <a:ext cx="1440" cy="47451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560" y="1376280"/>
            <a:ext cx="1440" cy="507528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92640" y="1371600"/>
            <a:ext cx="1440" cy="499572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3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rot="16140000">
            <a:off x="1125360" y="2223720"/>
            <a:ext cx="7304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140000">
            <a:off x="2449440" y="250236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140000">
            <a:off x="3058920" y="250236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3706920" y="2464200"/>
            <a:ext cx="858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66680" y="1289160"/>
            <a:ext cx="5375160" cy="52369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860904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układzie współrzędnych wyznacz punkty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których druga współrzędna y jest rów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33040" y="1687680"/>
            <a:ext cx="466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)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30160" y="2217600"/>
            <a:ext cx="586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)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6000" y="2720880"/>
            <a:ext cx="466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)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30160" y="3238560"/>
            <a:ext cx="814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) 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2960" y="3017880"/>
            <a:ext cx="4808520" cy="14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5680" y="4875120"/>
            <a:ext cx="4922640" cy="180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0360" y="3479760"/>
            <a:ext cx="4768920" cy="180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5680" y="4191120"/>
            <a:ext cx="4941720" cy="14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24240" y="3733920"/>
            <a:ext cx="346932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Co można powiedzie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o pierwsz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współrzędn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tych punkt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70360" y="5129280"/>
            <a:ext cx="57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>
            <a:hlinkClick r:id="" action="ppaction://hlinkshowjump?jump=nextslide"/>
          </p:cNvPr>
          <p:cNvPicPr/>
          <p:nvPr/>
        </p:nvPicPr>
        <p:blipFill>
          <a:blip r:embed="rId3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 rot="60000">
            <a:off x="3283920" y="263052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41080" y="311796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82120" y="3809880"/>
            <a:ext cx="960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10560" y="4502160"/>
            <a:ext cx="732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rol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79280" y="1403280"/>
            <a:ext cx="5419800" cy="52419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7200" y="83880"/>
            <a:ext cx="86090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układzie współrzędnych wyznacz punkty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tórych druga współrzędna y j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2286000"/>
            <a:ext cx="348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a) równa pierwszej (y =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43640" y="3124080"/>
            <a:ext cx="43624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b)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dwa razy większa od pierwsze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(y = 2x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1040" y="4114800"/>
            <a:ext cx="446004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c)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dwa razy mniejsza od pierwsze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(y = 0,5x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14160" y="1343160"/>
            <a:ext cx="4625640" cy="449892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712520" y="1468440"/>
            <a:ext cx="2328840" cy="44816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56840" y="2438280"/>
            <a:ext cx="4862520" cy="23637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" action="ppaction://hlinkshowjump?jump=nextslide"/>
          </p:cNvPr>
          <p:cNvPicPr/>
          <p:nvPr/>
        </p:nvPicPr>
        <p:blipFill>
          <a:blip r:embed="rId3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-68400" y="732168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30240" y="6891480"/>
            <a:ext cx="1019160" cy="4921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 rot="18900000">
            <a:off x="3744720" y="207108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7880000">
            <a:off x="3304080" y="1680120"/>
            <a:ext cx="782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20040000">
            <a:off x="4312440" y="2356560"/>
            <a:ext cx="1010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0,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rol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529240" cy="50436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41240" y="164880"/>
            <a:ext cx="86090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układzie współrzędnych wyznacz punkty, który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41400" y="1523880"/>
            <a:ext cx="4638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a) pierwsza współrzędna j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mniejsza od drugiej (y = x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12240" y="2438280"/>
            <a:ext cx="4505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b) pierwsza współrzędna jest 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większa od drugiej (y = x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77640" y="1676520"/>
            <a:ext cx="3638520" cy="34401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525320" y="2932200"/>
            <a:ext cx="3609720" cy="33447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>
            <a:hlinkClick r:id="" action="ppaction://hlinkshowjump?jump=nextslide"/>
          </p:cNvPr>
          <p:cNvPicPr/>
          <p:nvPr/>
        </p:nvPicPr>
        <p:blipFill>
          <a:blip r:embed="rId3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 rot="19080000">
            <a:off x="2895120" y="1676160"/>
            <a:ext cx="1107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9020000">
            <a:off x="4004640" y="3001320"/>
            <a:ext cx="1085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824520" y="1301760"/>
            <a:ext cx="3076560" cy="30067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3616200" y="1301760"/>
            <a:ext cx="3076560" cy="3006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235080" y="1301760"/>
            <a:ext cx="3076560" cy="30067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27200" y="192240"/>
            <a:ext cx="8609040" cy="97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ki warunek spełniają punkty należą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o zaznaczonego zbioru? Wybierz odpowiednią wartoś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2400" y="1320840"/>
            <a:ext cx="1440" cy="296712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19040" y="1219320"/>
            <a:ext cx="2027520" cy="3124080"/>
          </a:xfrm>
          <a:custGeom>
            <a:avLst/>
            <a:gdLst>
              <a:gd name="textAreaLeft" fmla="*/ 360 w 2027520"/>
              <a:gd name="textAreaRight" fmla="*/ 2027160 w 2027520"/>
              <a:gd name="textAreaTop" fmla="*/ 360 h 3124080"/>
              <a:gd name="textAreaBottom" fmla="*/ 3123720 h 3124080"/>
            </a:gdLst>
            <a:ahLst/>
            <a:rect l="textAreaLeft" t="textAreaTop" r="textAreaRight" b="textAreaBottom"/>
            <a:pathLst>
              <a:path w="21600" h="33280">
                <a:moveTo>
                  <a:pt x="16" y="0"/>
                </a:moveTo>
                <a:arcTo wR="16" hR="16" stAng="16200000" swAng="-5400000"/>
                <a:lnTo>
                  <a:pt x="0" y="33264"/>
                </a:lnTo>
                <a:arcTo wR="16" hR="16" stAng="10800000" swAng="-5400000"/>
                <a:lnTo>
                  <a:pt x="21584" y="33280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87760" y="1781280"/>
            <a:ext cx="3087720" cy="14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43480" y="1781280"/>
            <a:ext cx="3124080" cy="2562120"/>
          </a:xfrm>
          <a:prstGeom prst="roundRect">
            <a:avLst>
              <a:gd name="adj" fmla="val 65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939160" y="1279440"/>
            <a:ext cx="14400" cy="3033720"/>
          </a:xfrm>
          <a:prstGeom prst="line">
            <a:avLst/>
          </a:prstGeom>
          <a:ln w="3672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1219320"/>
            <a:ext cx="2133720" cy="3081240"/>
          </a:xfrm>
          <a:custGeom>
            <a:avLst/>
            <a:gdLst>
              <a:gd name="textAreaLeft" fmla="*/ 360 w 2133720"/>
              <a:gd name="textAreaRight" fmla="*/ 2133360 w 2133720"/>
              <a:gd name="textAreaTop" fmla="*/ 360 h 3081240"/>
              <a:gd name="textAreaBottom" fmla="*/ 3080880 h 3081240"/>
            </a:gdLst>
            <a:ahLst/>
            <a:rect l="textAreaLeft" t="textAreaTop" r="textAreaRight" b="textAreaBottom"/>
            <a:pathLst>
              <a:path w="21600" h="31190">
                <a:moveTo>
                  <a:pt x="17" y="0"/>
                </a:moveTo>
                <a:arcTo wR="17" hR="17" stAng="16200000" swAng="-5400000"/>
                <a:lnTo>
                  <a:pt x="0" y="31173"/>
                </a:lnTo>
                <a:arcTo wR="17" hR="17" stAng="10800000" swAng="-5400000"/>
                <a:lnTo>
                  <a:pt x="21583" y="3119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78240" y="5307120"/>
            <a:ext cx="63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26400" y="4680000"/>
            <a:ext cx="700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40920" y="5253120"/>
            <a:ext cx="802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32720" y="4708440"/>
            <a:ext cx="732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&lt;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97920" y="5292720"/>
            <a:ext cx="732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&gt;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60840" y="4681440"/>
            <a:ext cx="700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74600" y="4586400"/>
            <a:ext cx="1414440" cy="53028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143000" y="4626000"/>
            <a:ext cx="1374840" cy="46512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28600" y="5197320"/>
            <a:ext cx="1103400" cy="517680"/>
          </a:xfrm>
          <a:prstGeom prst="ellipse">
            <a:avLst/>
          </a:prstGeom>
          <a:noFill/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35560" y="4613400"/>
            <a:ext cx="1089000" cy="544320"/>
          </a:xfrm>
          <a:prstGeom prst="ellipse">
            <a:avLst/>
          </a:prstGeom>
          <a:noFill/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13160" y="5226120"/>
            <a:ext cx="1333440" cy="47628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395960" y="5236920"/>
            <a:ext cx="1333440" cy="39852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88160" y="5170320"/>
            <a:ext cx="1143000" cy="627120"/>
          </a:xfrm>
          <a:prstGeom prst="ellipse">
            <a:avLst/>
          </a:prstGeom>
          <a:noFill/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15200" y="4724280"/>
            <a:ext cx="1251000" cy="36684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7391520" y="4724280"/>
            <a:ext cx="1333440" cy="371520"/>
          </a:xfrm>
          <a:prstGeom prst="line">
            <a:avLst/>
          </a:prstGeom>
          <a:ln w="72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>
            <a:hlinkClick r:id="" action="ppaction://hlinkshowjump?jump=nextslide"/>
          </p:cNvPr>
          <p:cNvPicPr/>
          <p:nvPr/>
        </p:nvPicPr>
        <p:blipFill>
          <a:blip r:embed="rId5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6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5070600" y="2203560"/>
            <a:ext cx="3851280" cy="36860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692280" y="2244600"/>
            <a:ext cx="3851280" cy="36864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1240" y="137880"/>
            <a:ext cx="860904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aznacz w układzie współrzędnych zbiór wszystkich punktów spełniających podany warun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13000" y="1415880"/>
            <a:ext cx="1046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) x &gt;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72520" y="1387440"/>
            <a:ext cx="1031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)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38560" y="2238480"/>
            <a:ext cx="1440" cy="3717720"/>
          </a:xfrm>
          <a:prstGeom prst="line">
            <a:avLst/>
          </a:prstGeom>
          <a:ln w="3708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81400" y="2209680"/>
            <a:ext cx="2163600" cy="3733920"/>
          </a:xfrm>
          <a:custGeom>
            <a:avLst/>
            <a:gdLst>
              <a:gd name="textAreaLeft" fmla="*/ 360 w 2163600"/>
              <a:gd name="textAreaRight" fmla="*/ 2163240 w 2163600"/>
              <a:gd name="textAreaTop" fmla="*/ 360 h 3733920"/>
              <a:gd name="textAreaBottom" fmla="*/ 3733560 h 3733920"/>
            </a:gdLst>
            <a:ahLst/>
            <a:rect l="textAreaLeft" t="textAreaTop" r="textAreaRight" b="textAreaBottom"/>
            <a:pathLst>
              <a:path w="21600" h="37274">
                <a:moveTo>
                  <a:pt x="15" y="0"/>
                </a:moveTo>
                <a:arcTo wR="15" hR="15" stAng="16200000" swAng="-5400000"/>
                <a:lnTo>
                  <a:pt x="0" y="37259"/>
                </a:lnTo>
                <a:arcTo wR="15" hR="15" stAng="10800000" swAng="-5400000"/>
                <a:lnTo>
                  <a:pt x="21585" y="37274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87800" y="2755800"/>
            <a:ext cx="3976920" cy="180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1520" y="2778120"/>
            <a:ext cx="3886200" cy="3067200"/>
          </a:xfrm>
          <a:prstGeom prst="roundRect">
            <a:avLst>
              <a:gd name="adj" fmla="val 5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>
            <a:hlinkClick r:id="" action="ppaction://hlinkshowjump?jump=nextslide"/>
          </p:cNvPr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5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6" name="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25360" y="609120"/>
            <a:ext cx="4503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Arial"/>
              </a:rPr>
              <a:t>Przewodni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64920" y="1978200"/>
            <a:ext cx="8273880" cy="43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ś z histor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k zbudowany jest układ współrzędny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kr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ie położenia i wyznaczanie współrzędnych punkt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ury w układzie współrz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yznaczanie zbiorów punktów w układzie współrzęd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2" action="ppaction://hlinksldjump"/>
          </p:cNvPr>
          <p:cNvPicPr/>
          <p:nvPr/>
        </p:nvPicPr>
        <p:blipFill>
          <a:blip r:embed="rId3">
            <a:lum contrast="62000"/>
          </a:blip>
          <a:stretch/>
        </p:blipFill>
        <p:spPr>
          <a:xfrm>
            <a:off x="463680" y="1933560"/>
            <a:ext cx="101916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>
            <a:lum contrast="62000"/>
          </a:blip>
          <a:stretch/>
        </p:blipFill>
        <p:spPr>
          <a:xfrm>
            <a:off x="463680" y="2666880"/>
            <a:ext cx="1019160" cy="50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>
            <a:lum contrast="62000"/>
          </a:blip>
          <a:stretch/>
        </p:blipFill>
        <p:spPr>
          <a:xfrm>
            <a:off x="463680" y="3402000"/>
            <a:ext cx="1019160" cy="50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8" action="ppaction://hlinksldjump"/>
          </p:cNvPr>
          <p:cNvPicPr/>
          <p:nvPr/>
        </p:nvPicPr>
        <p:blipFill>
          <a:blip r:embed="rId9">
            <a:lum contrast="62000"/>
          </a:blip>
          <a:stretch/>
        </p:blipFill>
        <p:spPr>
          <a:xfrm>
            <a:off x="457200" y="4422600"/>
            <a:ext cx="1019160" cy="503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0" action="ppaction://hlinksldjump"/>
          </p:cNvPr>
          <p:cNvPicPr/>
          <p:nvPr/>
        </p:nvPicPr>
        <p:blipFill>
          <a:blip r:embed="rId11">
            <a:lum contrast="62000"/>
          </a:blip>
          <a:stretch/>
        </p:blipFill>
        <p:spPr>
          <a:xfrm>
            <a:off x="463680" y="5105520"/>
            <a:ext cx="1019160" cy="50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12">
            <a:lum contrast="68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13">
            <a:lum contrast="62000"/>
          </a:blip>
          <a:stretch/>
        </p:blipFill>
        <p:spPr>
          <a:xfrm>
            <a:off x="9344160" y="6843600"/>
            <a:ext cx="734760" cy="72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>
            <a:lum contrast="62000"/>
          </a:blip>
          <a:stretch/>
        </p:blipFill>
        <p:spPr>
          <a:xfrm>
            <a:off x="69840" y="6775560"/>
            <a:ext cx="747720" cy="74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15" name="space2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150840" y="1430280"/>
            <a:ext cx="5653080" cy="49420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27200" y="191880"/>
            <a:ext cx="86090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aznacz w układzie zbiór punktów, których współrzędne spełniają nierównoś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50320" y="1320840"/>
            <a:ext cx="2053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)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-3 i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577880" y="1370160"/>
            <a:ext cx="6480" cy="50241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8440" y="1363680"/>
            <a:ext cx="7920" cy="49658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93720" y="1438200"/>
            <a:ext cx="2460600" cy="4821480"/>
          </a:xfrm>
          <a:custGeom>
            <a:avLst/>
            <a:gdLst>
              <a:gd name="textAreaLeft" fmla="*/ 360 w 2460600"/>
              <a:gd name="textAreaRight" fmla="*/ 2460240 w 2460600"/>
              <a:gd name="textAreaTop" fmla="*/ 360 h 4821480"/>
              <a:gd name="textAreaBottom" fmla="*/ 4821120 h 4821480"/>
            </a:gdLst>
            <a:ahLst/>
            <a:rect l="textAreaLeft" t="textAreaTop" r="textAreaRight" b="textAreaBottom"/>
            <a:pathLst>
              <a:path w="21600" h="42322">
                <a:moveTo>
                  <a:pt x="13" y="0"/>
                </a:moveTo>
                <a:arcTo wR="13" hR="13" stAng="16200000" swAng="-5400000"/>
                <a:lnTo>
                  <a:pt x="0" y="42309"/>
                </a:lnTo>
                <a:arcTo wR="13" hR="13" stAng="10800000" swAng="-5400000"/>
                <a:lnTo>
                  <a:pt x="21587" y="42322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60" y="3062160"/>
            <a:ext cx="5638680" cy="1440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31760" y="2187720"/>
            <a:ext cx="5653080" cy="1728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6680" y="2216160"/>
            <a:ext cx="5583240" cy="831960"/>
          </a:xfrm>
          <a:prstGeom prst="roundRect">
            <a:avLst>
              <a:gd name="adj" fmla="val 19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03000" y="2209680"/>
            <a:ext cx="408816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Jaką figurę tworzą punk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należące do obu zaznaczonyc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zbiorów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>
            <a:hlinkClick r:id="" action="ppaction://hlinkshowjump?jump=nextslide"/>
          </p:cNvPr>
          <p:cNvPicPr/>
          <p:nvPr/>
        </p:nvPicPr>
        <p:blipFill>
          <a:blip r:embed="rId3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172200" y="3352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33ccff"/>
                </a:solidFill>
                <a:latin typeface="Arial"/>
              </a:rPr>
              <a:t>PROSTOKĄ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568520" y="2209680"/>
            <a:ext cx="2519280" cy="838440"/>
          </a:xfrm>
          <a:prstGeom prst="rect">
            <a:avLst/>
          </a:prstGeom>
          <a:solidFill>
            <a:srgbClr val="00b8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3400" y="1676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y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2590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y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679320" y="457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x = 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3117600" y="45021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x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1600200"/>
            <a:ext cx="251460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b) 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1 i 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rol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5334120" y="1274760"/>
            <a:ext cx="4613040" cy="44337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290520" y="1343160"/>
            <a:ext cx="4545000" cy="43513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4200" y="177840"/>
            <a:ext cx="86090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pisz jaki warunek spełnia  odcięta x i rzędna y każdego punktu, który należy do figury przedstawionej na rysunk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17600" y="2395440"/>
            <a:ext cx="1619280" cy="1184400"/>
          </a:xfrm>
          <a:prstGeom prst="roundRect">
            <a:avLst>
              <a:gd name="adj" fmla="val 130"/>
            </a:avLst>
          </a:prstGeom>
          <a:solidFill>
            <a:srgbClr val="ff0000">
              <a:alpha val="50000"/>
            </a:srgbClr>
          </a:solidFill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03880" y="2362320"/>
            <a:ext cx="4638600" cy="387360"/>
          </a:xfrm>
          <a:prstGeom prst="roundRect">
            <a:avLst>
              <a:gd name="adj" fmla="val 431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0" y="1335240"/>
            <a:ext cx="238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48280" y="1252440"/>
            <a:ext cx="255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98680" y="5961240"/>
            <a:ext cx="2073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79720" y="5959440"/>
            <a:ext cx="1971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>
            <a:hlinkClick r:id="" action="ppaction://hlinkshowjump?jump=nextslide"/>
          </p:cNvPr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5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300640" y="2362320"/>
            <a:ext cx="4672080" cy="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00640" y="2743200"/>
            <a:ext cx="4672080" cy="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ro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192320" y="1981080"/>
            <a:ext cx="5014800" cy="49183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1240" y="192240"/>
            <a:ext cx="860904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Łamigłów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5400" y="774720"/>
            <a:ext cx="990576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Narysuj układ współrzędnych. 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czynając od punktu o współrzędnych (2,0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nie odrywając 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ołówka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 od papieru poprowadź linie przez kolejne punk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HG Mincho Light J"/>
              </a:rPr>
              <a:t>o współrzędnych (2,10) (3,10) (3,7) (6,10) (7,9) (4,6) (8,1) (7,0) (3,5) (3,0) (2,0).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552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4071960" y="4403880"/>
            <a:ext cx="141120" cy="1411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4071960" y="2131920"/>
            <a:ext cx="141120" cy="1396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 flipV="1">
            <a:off x="4125960" y="2209320"/>
            <a:ext cx="1440" cy="22179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5"/>
          <a:stretch/>
        </p:blipFill>
        <p:spPr>
          <a:xfrm>
            <a:off x="4302000" y="2131920"/>
            <a:ext cx="141480" cy="1382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 flipV="1">
            <a:off x="4156200" y="2161800"/>
            <a:ext cx="201600" cy="176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4287960" y="2832120"/>
            <a:ext cx="141120" cy="1411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4370400" y="2225520"/>
            <a:ext cx="1440" cy="6429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7"/>
          <a:stretch/>
        </p:blipFill>
        <p:spPr>
          <a:xfrm>
            <a:off x="4962600" y="2146320"/>
            <a:ext cx="141120" cy="1411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 flipV="1">
            <a:off x="4370400" y="2195640"/>
            <a:ext cx="646200" cy="6746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8"/>
          <a:stretch/>
        </p:blipFill>
        <p:spPr>
          <a:xfrm>
            <a:off x="5176800" y="2389320"/>
            <a:ext cx="141480" cy="1396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5030640" y="2197080"/>
            <a:ext cx="216000" cy="21420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9"/>
          <a:stretch/>
        </p:blipFill>
        <p:spPr>
          <a:xfrm>
            <a:off x="4532400" y="3046320"/>
            <a:ext cx="141120" cy="1414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 flipH="1">
            <a:off x="4599000" y="2454120"/>
            <a:ext cx="635040" cy="6429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4302000" y="4389480"/>
            <a:ext cx="141480" cy="1396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4156200" y="4440240"/>
            <a:ext cx="201600" cy="1440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1"/>
          <a:stretch/>
        </p:blipFill>
        <p:spPr>
          <a:xfrm>
            <a:off x="4287960" y="3274920"/>
            <a:ext cx="141120" cy="1414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 flipV="1">
            <a:off x="4370400" y="3352680"/>
            <a:ext cx="1440" cy="10749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2"/>
          <a:stretch/>
        </p:blipFill>
        <p:spPr>
          <a:xfrm>
            <a:off x="5191200" y="4389480"/>
            <a:ext cx="141120" cy="1396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4341960" y="3340080"/>
            <a:ext cx="917280" cy="10857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3"/>
          <a:stretch/>
        </p:blipFill>
        <p:spPr>
          <a:xfrm>
            <a:off x="5407200" y="4189320"/>
            <a:ext cx="141120" cy="1414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 flipV="1">
            <a:off x="5261040" y="4238640"/>
            <a:ext cx="230040" cy="2030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0440" y="3111480"/>
            <a:ext cx="889200" cy="110016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89720" y="2354400"/>
            <a:ext cx="327960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ą figurę otrzym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jeśli pomnoży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wszystkie pierwsze współrzęd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tych punktów przez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i wykonasz rysu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w podobny sposó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46160" y="2187720"/>
            <a:ext cx="1333440" cy="2232000"/>
          </a:xfrm>
          <a:custGeom>
            <a:avLst/>
            <a:gdLst/>
            <a:ahLst/>
            <a:rect l="l" t="t" r="r" b="b"/>
            <a:pathLst>
              <a:path w="3705" h="6200">
                <a:moveTo>
                  <a:pt x="3704" y="6199"/>
                </a:moveTo>
                <a:lnTo>
                  <a:pt x="3666" y="38"/>
                </a:lnTo>
                <a:lnTo>
                  <a:pt x="3062" y="0"/>
                </a:lnTo>
                <a:lnTo>
                  <a:pt x="3062" y="1890"/>
                </a:lnTo>
                <a:lnTo>
                  <a:pt x="1247" y="38"/>
                </a:lnTo>
                <a:lnTo>
                  <a:pt x="642" y="643"/>
                </a:lnTo>
                <a:lnTo>
                  <a:pt x="2457" y="2570"/>
                </a:lnTo>
                <a:lnTo>
                  <a:pt x="0" y="5670"/>
                </a:lnTo>
                <a:lnTo>
                  <a:pt x="567" y="6199"/>
                </a:lnTo>
                <a:lnTo>
                  <a:pt x="3062" y="3213"/>
                </a:lnTo>
                <a:lnTo>
                  <a:pt x="3062" y="6161"/>
                </a:lnTo>
                <a:lnTo>
                  <a:pt x="3704" y="6161"/>
                </a:lnTo>
                <a:lnTo>
                  <a:pt x="3704" y="6199"/>
                </a:lnTo>
              </a:path>
            </a:pathLst>
          </a:custGeom>
          <a:noFill/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4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434400" y="1925640"/>
            <a:ext cx="11052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41520" y="4572000"/>
            <a:ext cx="11052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5">
            <a:lum contrast="62000"/>
          </a:blip>
          <a:stretch/>
        </p:blipFill>
        <p:spPr>
          <a:xfrm>
            <a:off x="9333000" y="6815160"/>
            <a:ext cx="747720" cy="744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6" name="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9520" y="190440"/>
            <a:ext cx="229392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24400" y="1139760"/>
            <a:ext cx="566100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RENE DESCARTES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(1596 - 165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840" y="3290760"/>
            <a:ext cx="88725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Sławny ucz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ny francuski Rene Descartes, którego w Polsce nazywamy zwykle Kartezjuszem, znany jest powszechni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 ze względu na swą słynną maksymę: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Myślę, więc jestem (Cogito, ergo sum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.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Interesował się filozofią, fizyką i m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tematyką.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Połączył geometrię z algebrą, wprowadzając osie współrzędnych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 i dzięki nim liczbowy opis figur geometrycznych. Dlatego płaszczyznę z układem współrzędnych nazywamy płaszczyzną kartezjańską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>
            <a:hlinkClick r:id="" action="ppaction://hlinkshowjump?jump=nextslide"/>
          </p:cNvPr>
          <p:cNvPicPr/>
          <p:nvPr/>
        </p:nvPicPr>
        <p:blipFill>
          <a:blip r:embed="rId3">
            <a:lum contrast="62000"/>
          </a:blip>
          <a:stretch/>
        </p:blipFill>
        <p:spPr>
          <a:xfrm>
            <a:off x="9345600" y="6838920"/>
            <a:ext cx="735120" cy="72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4" action="ppaction://hlinksldjump"/>
          </p:cNvPr>
          <p:cNvPicPr/>
          <p:nvPr/>
        </p:nvPicPr>
        <p:blipFill>
          <a:blip r:embed="rId5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6" name="space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5920" y="304920"/>
            <a:ext cx="9694800" cy="36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Kartezjusz uwielbiał długie poranne wylegiwanie się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w łóżku. Tak spędzał poranki już w szkole w La Fleche, gdzie dzięki rektorowi, który był dalekim krewnym jego matki, pozwolono chłopcu spać nie we wspólnej sypialni z innymi uczniami, lecz w oddzielnym pokoju i leżeć rano tak długo, jak mu się podobało. Zwykle rozmyślał w łóżku do je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nastej lub dłużej. Nie zmienił tego zwyczaju nawet wówczas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gdy służy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w wojsku. Twierdził zawsze, że właśnie wylegując się długo, doszedł do największych odkry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1800" y="3886200"/>
            <a:ext cx="97189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Młody Rene prowadził w Paryżu światowe życie według ówc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snych obyczajów. Modnie się ubierał, grał w karty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nie stronił od zabaw i widowisk. Jako szlachcic nie mógł unikać pojedynków, a sztukę pojedynkowania znał tak dobrze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że napisał na jej temat specjalny traktat. Był on zresztą jedyną pracą Kartezjusza, której po jego śmierci nie włączono d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Indeksu ksiąg zakazany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2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5" name="space3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3200" y="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stokątny układ współrzędnych (zwany kartezjański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523880"/>
            <a:ext cx="6400800" cy="51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Dwie osie liczbowe, które są wzajemnie prostopadłe i mają punkt wspólny zerowy, nazywamy układem współrzędnych prostokątn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lub układem kartezjańsk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Oś poz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ma zwykle nazywa się osią x (osią odciętych), pionowa - osią y (osią rzędnych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Każdy punkt w układzie współrzęd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ma swój "adres" - dwie liczby, które opisują jego położenie. Tę parę liczb nazywamy współrzędnymi tego punkt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W układzie współrzędnych na płaszczyźnie każda para liczb wyznacza pun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Punkt (0, 0) to początek układu współrzędny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Układ dzieli płaszczyznę na ćwiartki: I, II, III, IV.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720" y="6846840"/>
            <a:ext cx="7226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HG Mincho Light J"/>
              </a:rPr>
              <a:t>UWAGA! UMOWA!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HG Mincho Light J"/>
              </a:rPr>
              <a:t>Zawsze jako pierwszą podajemy liczbę z osi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  <a:ea typeface="HG Mincho Light J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HG Mincho Light J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3603600" cy="381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nextslide"/>
          </p:cNvPr>
          <p:cNvPicPr/>
          <p:nvPr/>
        </p:nvPicPr>
        <p:blipFill>
          <a:blip r:embed="rId3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4" action="ppaction://hlinksldjump"/>
          </p:cNvPr>
          <p:cNvPicPr/>
          <p:nvPr/>
        </p:nvPicPr>
        <p:blipFill>
          <a:blip r:embed="rId5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6" name="space2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4040" y="1623960"/>
            <a:ext cx="4888080" cy="4749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0904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arysuj układ współrzędnych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 zaznacz w nim punk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2320" y="2476440"/>
            <a:ext cx="907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(-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166840" y="2289240"/>
            <a:ext cx="133560" cy="14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44600" y="2354400"/>
            <a:ext cx="1800" cy="12380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32000" y="2340000"/>
            <a:ext cx="871560" cy="14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29240" y="1919160"/>
            <a:ext cx="22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7800" y="2971800"/>
            <a:ext cx="890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(-4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295280" y="3541680"/>
            <a:ext cx="133560" cy="13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60440" y="3592440"/>
            <a:ext cx="1741680" cy="180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72440" y="3224160"/>
            <a:ext cx="2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7440" y="3429000"/>
            <a:ext cx="992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(-4,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295280" y="4819680"/>
            <a:ext cx="133560" cy="133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60440" y="3660840"/>
            <a:ext cx="1800" cy="12110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60440" y="4871880"/>
            <a:ext cx="1728720" cy="180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80280" y="4476600"/>
            <a:ext cx="2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59320" y="3892680"/>
            <a:ext cx="805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(2,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3881520" y="186696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73680" y="1932120"/>
            <a:ext cx="1440" cy="169992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99960" y="1932120"/>
            <a:ext cx="833400" cy="14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92080" y="1565280"/>
            <a:ext cx="22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71200" y="4367160"/>
            <a:ext cx="87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(4,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4765680" y="396396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30840" y="3619440"/>
            <a:ext cx="1440" cy="3668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060720" y="4025520"/>
            <a:ext cx="1728720" cy="176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46080" y="4091040"/>
            <a:ext cx="186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4560" y="4816440"/>
            <a:ext cx="857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(3,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4330800" y="522936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>
            <a:off x="4395960" y="3605040"/>
            <a:ext cx="1440" cy="163512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9120" y="5280120"/>
            <a:ext cx="1211040" cy="14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0160" y="5342040"/>
            <a:ext cx="169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>
            <a:hlinkClick r:id="" action="ppaction://hlinkshowjump?jump=nextslide"/>
          </p:cNvPr>
          <p:cNvPicPr/>
          <p:nvPr/>
        </p:nvPicPr>
        <p:blipFill>
          <a:blip r:embed="rId9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0" action="ppaction://hlinksldjump"/>
          </p:cNvPr>
          <p:cNvPicPr/>
          <p:nvPr/>
        </p:nvPicPr>
        <p:blipFill>
          <a:blip r:embed="rId11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2" name="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90520" y="1398600"/>
            <a:ext cx="4970520" cy="5057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240" y="16524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daj współrzędne punktów zaznaczonych w układzie współrzęd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718080" y="2589120"/>
            <a:ext cx="133200" cy="133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24400" y="2273400"/>
            <a:ext cx="228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1440" y="2014560"/>
            <a:ext cx="805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(2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68840" y="2693880"/>
            <a:ext cx="1440" cy="83052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1480" y="2622600"/>
            <a:ext cx="884520" cy="14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063800" y="302436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1160" y="2749680"/>
            <a:ext cx="198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01600" y="3143160"/>
            <a:ext cx="1800" cy="3812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50920" y="3073320"/>
            <a:ext cx="1714680" cy="158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50720" y="2463840"/>
            <a:ext cx="890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(-4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2384280" y="1717560"/>
            <a:ext cx="133560" cy="133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78720" y="1414440"/>
            <a:ext cx="2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5400" y="1797120"/>
            <a:ext cx="1440" cy="171432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90840" y="1755720"/>
            <a:ext cx="395280" cy="180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50720" y="2911320"/>
            <a:ext cx="890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(-1,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615960" y="4344840"/>
            <a:ext cx="133200" cy="1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21920" y="4068720"/>
            <a:ext cx="22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0880" y="3524400"/>
            <a:ext cx="1440" cy="85716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120" y="4408560"/>
            <a:ext cx="2178000" cy="14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3680" y="3333600"/>
            <a:ext cx="1009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(-5,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4575240" y="390852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341240" y="3592440"/>
            <a:ext cx="186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0400" y="3524400"/>
            <a:ext cx="1440" cy="40788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4320" y="3973680"/>
            <a:ext cx="1714680" cy="14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50360" y="3782880"/>
            <a:ext cx="87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(4,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4125960" y="522936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41280" y="4898880"/>
            <a:ext cx="169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03720" y="3524400"/>
            <a:ext cx="1440" cy="174132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71720" y="5307120"/>
            <a:ext cx="1320840" cy="1440"/>
          </a:xfrm>
          <a:prstGeom prst="line">
            <a:avLst/>
          </a:prstGeom>
          <a:ln w="36000">
            <a:solidFill>
              <a:srgbClr val="dc2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3680" y="4205160"/>
            <a:ext cx="857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(3,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>
            <a:hlinkClick r:id="" action="ppaction://hlinkshowjump?jump=nextslide"/>
          </p:cNvPr>
          <p:cNvPicPr/>
          <p:nvPr/>
        </p:nvPicPr>
        <p:blipFill>
          <a:blip r:embed="rId9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>
            <a:hlinkClick r:id="rId10" action="ppaction://hlinksldjump"/>
          </p:cNvPr>
          <p:cNvPicPr/>
          <p:nvPr/>
        </p:nvPicPr>
        <p:blipFill>
          <a:blip r:embed="rId11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2" name="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1649520"/>
            <a:ext cx="5265720" cy="5014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33280"/>
            <a:ext cx="9370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układzie współrzędnych wykreśl kwadrat, którego jednym z boków jest odcinek o końcach A(1,-5) i B(1,-1). Podaj współrzędne pozostałych wierzchoł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444840" y="5896080"/>
            <a:ext cx="133560" cy="133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61120" y="6000840"/>
            <a:ext cx="22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432240" y="4127400"/>
            <a:ext cx="133200" cy="133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5320" y="3809880"/>
            <a:ext cx="2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7400" y="4205160"/>
            <a:ext cx="1440" cy="171468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4191120"/>
            <a:ext cx="1871640" cy="1770120"/>
          </a:xfrm>
          <a:prstGeom prst="roundRect">
            <a:avLst>
              <a:gd name="adj" fmla="val 88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5310360" y="411336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437080" y="4184640"/>
            <a:ext cx="2919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33680" y="4192560"/>
            <a:ext cx="1834920" cy="1770120"/>
          </a:xfrm>
          <a:prstGeom prst="roundRect">
            <a:avLst>
              <a:gd name="adj" fmla="val 88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5310360" y="592308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77040" y="5999040"/>
            <a:ext cx="3088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1554120" y="4113360"/>
            <a:ext cx="133560" cy="133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89080" y="4213080"/>
            <a:ext cx="2919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1568520" y="589608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203480" y="5973840"/>
            <a:ext cx="3088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7480" y="2654280"/>
            <a:ext cx="97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5,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6560" y="3200400"/>
            <a:ext cx="9961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5,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81720" y="3809880"/>
            <a:ext cx="1092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-3,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4343400"/>
            <a:ext cx="11095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-3,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>
            <a:hlinkClick r:id="" action="ppaction://hlinkshowjump?jump=nextslide"/>
          </p:cNvPr>
          <p:cNvPicPr/>
          <p:nvPr/>
        </p:nvPicPr>
        <p:blipFill>
          <a:blip r:embed="rId11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2" action="ppaction://hlinksldjump"/>
          </p:cNvPr>
          <p:cNvPicPr/>
          <p:nvPr/>
        </p:nvPicPr>
        <p:blipFill>
          <a:blip r:embed="rId13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4" name="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4200" y="1401840"/>
            <a:ext cx="4762440" cy="463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4520" y="138240"/>
            <a:ext cx="92408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ykreśl romb, którego jedną przekątną jest odcine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 końcach A(3,1) i B(3,-5), a druga przekątna ma długość d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ó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ednost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152960" y="284796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916800" y="2544840"/>
            <a:ext cx="22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165560" y="5311800"/>
            <a:ext cx="133560" cy="133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834720" y="5402160"/>
            <a:ext cx="2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18120" y="2940120"/>
            <a:ext cx="1440" cy="24080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757680" y="408636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4575240" y="4100400"/>
            <a:ext cx="133200" cy="133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51280" y="4149720"/>
            <a:ext cx="789120" cy="1440"/>
          </a:xfrm>
          <a:prstGeom prst="line">
            <a:avLst/>
          </a:prstGeom>
          <a:ln w="3600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24280" y="2911320"/>
            <a:ext cx="803160" cy="2463840"/>
          </a:xfrm>
          <a:custGeom>
            <a:avLst/>
            <a:gdLst/>
            <a:ahLst/>
            <a:rect l="l" t="t" r="r" b="b"/>
            <a:pathLst>
              <a:path w="2231" h="6842">
                <a:moveTo>
                  <a:pt x="1021" y="0"/>
                </a:moveTo>
                <a:lnTo>
                  <a:pt x="0" y="3402"/>
                </a:lnTo>
                <a:lnTo>
                  <a:pt x="1096" y="6841"/>
                </a:lnTo>
                <a:lnTo>
                  <a:pt x="2230" y="3402"/>
                </a:lnTo>
                <a:lnTo>
                  <a:pt x="1058" y="0"/>
                </a:lnTo>
                <a:lnTo>
                  <a:pt x="1021" y="0"/>
                </a:lnTo>
              </a:path>
            </a:pathLst>
          </a:custGeom>
          <a:noFill/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97760" y="3755880"/>
            <a:ext cx="2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08080" y="3782880"/>
            <a:ext cx="22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13560" y="3755880"/>
            <a:ext cx="805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(3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12840" y="4327560"/>
            <a:ext cx="890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(3,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25440" y="4898880"/>
            <a:ext cx="890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(2,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13200" y="5497560"/>
            <a:ext cx="907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(4,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640" y="2362320"/>
            <a:ext cx="44661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Podaj współrzędne wierzchoł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tego romb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" action="ppaction://hlinkshowjump?jump=nextslide"/>
          </p:cNvPr>
          <p:cNvPicPr/>
          <p:nvPr/>
        </p:nvPicPr>
        <p:blipFill>
          <a:blip r:embed="rId7">
            <a:lum contrast="62000"/>
          </a:blip>
          <a:stretch/>
        </p:blipFill>
        <p:spPr>
          <a:xfrm>
            <a:off x="9345600" y="6840360"/>
            <a:ext cx="735120" cy="721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-360" y="7296120"/>
            <a:ext cx="11088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valon"/>
                <a:ea typeface="HG Mincho Light J"/>
              </a:rPr>
              <a:t>Przewod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8" action="ppaction://hlinksldjump"/>
          </p:cNvPr>
          <p:cNvPicPr/>
          <p:nvPr/>
        </p:nvPicPr>
        <p:blipFill>
          <a:blip r:embed="rId9">
            <a:lum contrast="62000"/>
          </a:blip>
          <a:stretch/>
        </p:blipFill>
        <p:spPr>
          <a:xfrm>
            <a:off x="98280" y="6808680"/>
            <a:ext cx="1019160" cy="55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0" name="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na Blicharska</dc:creator>
  <dc:description/>
  <dc:language>en-US</dc:language>
  <cp:lastModifiedBy>Internet dla gmin</cp:lastModifiedBy>
  <dcterms:modified xsi:type="dcterms:W3CDTF">2002-11-27T11:42:57Z</dcterms:modified>
  <cp:revision>29</cp:revision>
  <dc:subject/>
  <dc:title>Prostokątny układ współrzędnych na płaszczyźnie</dc:title>
</cp:coreProperties>
</file>